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43E-8529-4E4B-89D1-D1EE591F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20B-D11F-411C-B696-F5544884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990-36BC-4D89-8B82-4A62E940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E77-BB40-464D-BB25-909083DB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597F-117F-4108-A796-799E67BC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7C08-9751-471E-9DC1-957A05A3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D331-78A2-46CC-B8EC-5F2189C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43E5-2D0E-426B-911E-A3B7B2E7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5D20-2A0F-487F-A0D7-102CC06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947A-3C33-4D9B-B55A-D175D239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406C-8054-4B86-9C6C-3C5631F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9E8-1272-4317-AEF7-B3C63928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6859-54B7-4BFB-A1E4-A83FA79F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B749-BAD5-4879-9388-4608262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FB4A-0740-4DCC-B900-5201DBEC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166B-EDEF-46CD-9B3B-929A6FC3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29AE-A8EA-40DE-B0F2-E09BB216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264-E20A-4471-8BA3-4F7CB2DA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42B-2BD9-453F-87AF-302133D2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EF4-E980-4AE7-9F2C-9509A5D3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D42-86D4-45A7-A0F6-DA9219D5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0C5-36F0-4B82-97F6-581C07FD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E5E-893E-4E5C-AD1D-62C9A6B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2DE-00E0-4CF6-BF86-2E4FA55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57A6-1F9E-40A9-BFD2-14D4BEF590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E22B-849D-4B1B-95BC-55A26617D2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авовые и организационные вопросы Национальных счетов здравоохран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г. Акто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12440" y="1371600"/>
            <a:ext cx="780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равовые и организацио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опросы внед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ациональных счетов 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00" y="4317840"/>
            <a:ext cx="763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. Акт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03EB-300B-43F3-91E8-0EE54022E2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се физические и юридические лица, обязаны безвозмездно предоставлять первичную статистическую информацию при проведении государственных статистических наблюдений, предусмотренных планом статистических работ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едомственные статистические наблюдения, в т.ч. форма №19, входит в число государственных статистических наблюдений (статья 2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лан статистических работ утверждается Правительством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9AB-8132-4501-87A2-EC1C87112B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ом гарантировано сохранение конфиденциальности статистической информации, в т.ч. содержащие сведения, отнесенные к коммерческой или иной охраняемой тай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остранение статистической информации, содержащей коммерческую тайну преследуется законодательными акт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оАП РК ст. 383 - продажа, передача или иное разглашение статистических данных, содержащих коммерческую тайну, должностным лицом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9DC-3558-4227-A950-3875283ED0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й механизм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. 8 Закона установлено, что уполномоченный орган издает НПА по вопросам государственной статистики, исполнение которых обязательно для всех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ом статистических наблюдений на 2006 год, в числе ведомственных наблюдений проводимых МЗ РК предусмотрена форма №19 «Отчет о расходах здравоохран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ановления Правительства не подлежат государственной регистрации в органах юстиции, имеют прямое применение на всей территории страны и подлежат исполнению всеми лиц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92B-B2B0-4566-88D7-12671CADB5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респондентов надлежащему заполнению отчетной формы и базы данны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персонала качественному сбору и своду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Техническое, программное обеспечение процесса сбора информации и устранение возникающих «проблем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еспечение качественного анализа полученной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5CA-2E5B-4E9A-994F-44D616506B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и – получатели бюджетных средст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е бухгалтерского уч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оставление функциональной классификации расходов бюджета с функциями (видами медицинских услуг в НСЗ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сударственные организа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еление «приходной» части финансов соответственно функциям НСЗ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деление из «приходной части» дохода (прибыли) для фиксации расхода организации на поставку медицинских услу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128-5E15-45BC-9459-F593CB21EAC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04 «Оказание стационарной медицинской помощи по направлению…ПМСП…» - соответствует «НС. 1.1.2 Услуги лечения. Стационарн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11 «Оказание скорой и неотложной помощи» - соответствует «НС. 4.3 Вспомогательные услуги. Оказание экстренной и неотложной медицинской помощи и транспортировка пациентов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2F1-77C6-4698-8913-9563B44CD21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блемное сопоставл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ое лечение в дневном стационар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семьи и семейные консульт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илактика инфекционных заболев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ый уход на дом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оставление медицинских товаров амбулаторным больным, и друг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ность проблемы – проведение финансового ауд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B27-F87A-435F-9F33-D302ADE848C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егосударственные организ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всей «приходной» части финансов, полученных от поставки медицинских услуг – включается прибыль, некоторые и платеж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непосредственно «расходов» поставщика на оказание медицинских услу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9F7-B870-480F-9E40-C84A6CCCAA9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СЗ и фармацевтическая деятельно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3400"/>
            <a:ext cx="82692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ассификация поставщиков услуг сопоставима с классификацией согласно Закона РК «О лекарственных средствах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ьшинство субъектов фармацевтической деятельности реализуют ИМН и МТ через аптечные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обходимость аудиторского подхода при формирования отч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821-2B89-4572-8444-6446CD6FC90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назначены для структурирования групп расходов, соответствующих профилю деятельности организации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изаций НСЗ не пригодно  в целях финансового контроля в силу не полного их 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группировать финансовые ресурсы для определения структуры рынка медицинских услу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74C-D1AA-4830-AB75-2FA3E415E14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9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енной Программой реформирования и развития здравоохранения Республики Казахстан на 2005-2010 годы, в рамках совершенствования системы финансирования отрасли предусмотрено внедрение в 2006-2007 годах Национальных счетов здравоохранения (НС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определить в денежном выражении вклад всех государственных, общественных и иных институтов (государственный бюджет, средства населения, страховые взносы, иностранные организации, средства работодателей и т.д.) в систему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18A-B919-4726-A21C-B1B4BFEC3E8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158920"/>
            <a:ext cx="796932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точном заполнении всеми субъектами позволяет определить структуру затрат общества на здравоохранения, долю и объемы бюджетов каждого поставщика услуг в разрезе видов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уктурированные денежные потоки в динамике позволяют проследить изменение источников финансирования здравоохранения (нагрузки бюдже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ACB-D8A2-4770-8B0B-877F95382D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2695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ение структуры расходов и финансовых потоков позволит выразить в денежном эквиваленте межсекторальное взаимодействие общественных институтов и солидарную ответственность социальных сегментов за общественное и индивидуальное здоровь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1ED-8903-4FBE-BCD9-1E3F29BDCCDF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бор полной и достоверной информации дает возможность использовать НСЗ как индикатор важнейших принципов государственной политики в области здравоохранения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олидарной ответственности государства, работодателей и граждан за сохранение и укрепление индивидуального и общественного здоровья;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межсекторального взаимодейств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359-B7BA-4AEA-BCAF-C8522F81C8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я сбора 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520" y="22860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тчет о расходах организации здравоохранения» - форма годовой статистической отчетности №19, утвержденной приказом председателя Агентства РК по статистике от 23 января 2006 г. №1-г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яду с бумажным носителем – программный комплекс «Национальный счета здравоохранения» (Разработчик: ТОО «Мединформ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ов, осуществляющих сбор информации - приказ И.о. Министра здравоохранения от 10 апреля 2006 г. №170 «О предоставлении ведомственной статистической отчетности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DA8-08B3-4A07-81B4-89CA413A68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5840" y="22096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бираемые сведения имеют прямое отношение, или составляют коммерческую тайн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ражения и прямые отказы лиц негосударственной формы собственности, в предоставлении информации по форме №1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чаи не предоставления частными субъектами информации имели место в некоторых областях Республики, (Круглый стол, 5 сентября 2006 г., г. Астана, «Общество «Диабет» (г. Тараз)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ание для отказа в предоставлении информации - приказ МЗ РК №170 не прошел регистрацию в органах юстиции и следовательно не подлежит применению в отношении частных субъект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25A-13BF-4A07-BDE8-68ED70D40B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2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50384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ь за сбор информации по неутвержденным форм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АП РК, статья 384 – сбор статистической информации по неутвержденным форм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1A4-FFB5-412A-B260-8F7F889CFE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3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дание и исполнение приказа №170 не регулируется Законом РК от 24.03.1998 г. «О нормативных правовых актах» - приказ не отвечает требованиям подпункта 1) статьи 1 Закона (отсутствие вводимой новой правовой нормы, рассчитанной на многократное применение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применительное и правореализующее зна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 круг исполн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лен четкий срок испол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ует прямое указание респондент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A68-6593-45B3-B8EB-870CC2CD8A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4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ражения субъектов об отсутствии  государственной регистрации приказа №170 в органах юстиции в порядке предусмотренном Законом «О нормативных правовых актах» являются необоснованны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вовое основание, устанавливающие обязанность лиц предоставлять информацию по форме №19 – нормативные правовые акты в сфере статис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CEB-BE19-4235-BF99-ADE3016A01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е основа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Закон РК от 07.05.1997 «О государственной статистике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02.11.2002 «Об утверждении Правил проведения общегосударственных статистических наблюдений и обеспечения государственных органов статистической и аналитической информацией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31.01.2006 №58 «Об утверждении Плана статистических наблюдений на 2006 год»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равила предоставления статистической отчетности, утвержденных приказом Председателя Агентства РК по статистике от 10.07.2002 №72 (зарегистрированы в МЮ РК 09.08.2002 №1947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EBB-C925-421E-A5B7-21C1161F18A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tobe</cp:lastModifiedBy>
  <dcterms:modified xsi:type="dcterms:W3CDTF">2006-10-19T21:54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