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CEB-B62F-49D8-A834-4382CE19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D50-50F1-4316-B53C-28847F69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6AD-232D-47F1-AA77-0F63A0AB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0F2-B4F7-4D49-90D9-CE05EED1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332-224A-4C76-B653-036EF0A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C284-930B-498F-A506-AD1ECE7F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9F27-F24C-406E-9905-B00D359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DFE-3A45-464D-9CEE-77B6EB3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16D0-D2B9-4AC9-85F3-CB869D0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4A8E-9CE0-4A19-9819-CF5EC2C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D09-4CF1-409E-9A9A-6104633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1E2-69B0-4EA2-A6CD-B1E0D19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CAC3-7D6A-499E-AEC2-71E0A24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86E-DE12-4765-8035-194D370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660-8E03-4A86-A253-AF654BF9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3AF-D557-410E-BE86-76F32DA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39C0-F092-4579-8C0E-75E1D8F7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62B-7EE8-4BF0-84B7-1E1BCBC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8B8-83CE-43F7-9B27-71C3CB3D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71B-9F23-40A9-A5AF-D3F6D72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BFB-414B-4E69-BBF0-0618FFD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C5F-A6CE-4562-B19C-2AE59CB2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E81-E6E0-4DF1-9FFC-D518EBC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36E-6D7C-4466-A4BB-097E537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950-01A3-462D-8118-9E65911167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498-2F32-4899-A059-7194BB2513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вершенствование основ политики и управления  в здравоохранении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KULZHANOV M.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akhstan School of Public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ty, October 20-2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етьей составляющей оценки качества управления является анализ показателя эконом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.е. соотношения результата к затр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Управленческие решения на уровне обла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6% - решения по частным вопро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4% - значим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3% - принятые единолично руко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% - развитию общестационарной и П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решении по вопросам специализирован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истема подбора, обучения и расстановки кадр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ение критериев от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резерва руководящи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на обучение (1-2 годичные к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вижение на руководящую дол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Управления по результатам в здравоохранении,основные разде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ясных целей и подцелей дл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системы сбалансированных показателей здоровья и развития системы здравоохра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ы работы в новой системе управления  и взаимодействие  учреждений здравоохранения между собой и с вышестоящими уровнями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нсирование (одноканальная система финансирования, составление проекта бюджета  ориентированного на результат (показатели здоровья и др. индикаторы) (новая форма бюджетной зая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ть целей системы здравоохранения для  повышения показателей здоровья насел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болезней системы крово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онкологических заболеван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 населения от травм и от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заболеваемости населения болезнями органов дыхания, включая Т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детской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формулирования целей повышения эффективности системы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внедрение новой системы планирования и  финансирования по методологии бюджетирования ориентированного на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тимулирования ЛПУ за эффективное использование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истемы учета таким образом, чтобы она позволяла оценить воздействие оказываемых услуг на здоровье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стандартов качества оказываемых услуг в каждой ЛПУ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11640" y="333000"/>
            <a:ext cx="25779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лановых значений уровня качества оказываемых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ериодического мониторинга качества оказываем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типовой системы мотивации персонала, ориентированной на достижение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диной закупочной политики лекарствен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тернет-сайтов департаментов здравоохранения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торой составляющей оценки качества управления является анализ результатив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зультативность характеризуется соотношением поставленных целей и достигнут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имер показателей, характеризующих результативность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ность от болезней системы кровообращения на 100 000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заболеваемость туберкулёзом на 100 000 взрослого и детского нас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выявляемость онкологических заболеваний в I-II стад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мплектованность физическими лицами должностей врачей-терапевтов участковых, врачей-педиатров участковых, врачей общей практики их соотнош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ый вес больных инфарктом миокарда, госпитализированных в первые 6 часов от начала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ы целевых показателей реформирования управления системой здравоохранения для областного уровня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формированной бюджетной заявки по новой методологии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медицинских работников, прошедших обучение по алгоритмам оказания усл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твержденного Плана мероприятий по реализации Кадровой политики в сфере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Единой базы данных по врачебному и сестринскому персоналу, работающему в учреждениях здравоохранения об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снащения учреждений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ичность обновления Интернет-сайта департамента здравоо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Пример целевых показателей здоровья для районного уровня управления здравоохран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инфаркта миокарда и цереброваскулярных болезне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ичная летальность от инфаркта миокарда и цереброваскулярных болез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ность от травм и отравлений в рай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летняя выживаемость больных онкологическими заболеван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та обострений хронических заболеваний у детей, состоящих на диспансерном учете в данном учреждении здравоохранения, наличие группы ЧД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25:21Z</dcterms:created>
  <dc:creator>Kulzhanov</dc:creator>
  <dc:description/>
  <dc:language>en-US</dc:language>
  <cp:lastModifiedBy>sauko</cp:lastModifiedBy>
  <dcterms:modified xsi:type="dcterms:W3CDTF">2006-10-19T15:08:37Z</dcterms:modified>
  <cp:revision>4</cp:revision>
  <dc:subject/>
  <dc:title>Cовершенствование основ политики и управления  в здравоохранении </dc:title>
</cp:coreProperties>
</file>